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64BB8-CC22-4372-BEDA-7FA47D78FEE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8E446-DF26-4C60-A923-328365A9063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CA784-73C0-4511-96C8-E9C70AE6870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80DC1-9D4C-47DD-92F0-6FAE3464BB2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4C15B-CD10-4C00-95BC-2D351E02572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F5A33-7568-41F2-9918-8C0E5275D06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301C-9747-4C51-880B-3F5027E61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F72B-EC39-4D47-81DA-8F2FFC401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F663-B352-4FE0-AA9B-4BA4D21D1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4165-2B63-4DE9-958E-A03B09F1E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9532-EB2A-4770-815C-DED6B7E7B5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9430-0164-4BE7-8323-C4593B7217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640C-7430-482D-B013-81E39E0309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56DE-C390-433C-80A3-A2BAC21C71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F0C6-EBAA-450A-AF55-4D14FB62FC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AA928-6F52-40B4-A2DD-D2B2F5864A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B7ED-B3CD-4B8C-8DBE-3423785181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A8DC-B7AF-4ACC-8F78-98B98BBB4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CE94-1D29-4242-9A9A-062E528C47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454F-ACD8-49A5-97B5-8D1FFC4D8E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9E7B-67A9-4166-A27B-249524BA7F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4BD7-3E85-4626-B929-CC209517EB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89B3-F762-4920-B7A8-E283C92F55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DABC-2EB4-49D3-8296-A4301E694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6E89-A919-4497-AF6F-580E1DF2D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9326-8EE0-4F64-8DE2-F72EEB8E3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1504-DA7E-4776-BC8E-E813EF043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EFA7-F55C-4B61-9CD1-E67750CE4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D15E-D9CB-4E2B-A39C-A68EC2497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25E5-9EED-4C09-B994-65A59A3E2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2280" y="3104640"/>
            <a:ext cx="6208920" cy="22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66E09F-635C-4C49-9716-B434D2FB68B8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ECD5F3A3-DD66-4C35-9F6F-D97C0B16C1FC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326E55-ADBA-43AA-8B85-D91C0BC11637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6C94F581-810A-4360-B242-33E8C2C8D9C2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852640" y="3105000"/>
            <a:ext cx="6210360" cy="2237040"/>
          </a:xfrm>
          <a:prstGeom prst="rect">
            <a:avLst/>
          </a:prstGeom>
          <a:solidFill>
            <a:srgbClr val="ed0c8b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Metamodel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ERD2U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7160" y="5886360"/>
            <a:ext cx="54165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xpertgroep informatiemodellen 9 september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llen De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el 1"/>
          <p:cNvSpPr/>
          <p:nvPr/>
        </p:nvSpPr>
        <p:spPr>
          <a:xfrm>
            <a:off x="17859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gegevens brondocu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214280" y="1857240"/>
            <a:ext cx="6772320" cy="3057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1</a:t>
            </a:r>
            <a:r>
              <a:rPr b="0" lang="nl-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Aanleiding &amp; uitgangspunt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2</a:t>
            </a:r>
            <a:r>
              <a:rPr b="0" lang="nl-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Structuur informatiemode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3. EA profi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el 1"/>
          <p:cNvSpPr/>
          <p:nvPr/>
        </p:nvSpPr>
        <p:spPr>
          <a:xfrm>
            <a:off x="17859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Gebruik EA prof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 Aanleiding &amp; uitgangspunt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2 Metamodel ERD2UML inhoudelij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3 EA profi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Harmonisatie STUF NEN36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78595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:1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pecificaties (=tekst) als ba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Voorkomen interpretatie van specifica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géén inhoudelijke wijzigingen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behoud van alle inform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onderscheid in presentatie (catalogus) 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registratie (EA)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Uitgang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con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1</a:t>
            </a:r>
            <a:r>
              <a:rPr b="0" lang="nl-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f2f2f2"/>
                </a:solidFill>
                <a:latin typeface="Verdana"/>
              </a:rPr>
              <a:t>Aanleiding &amp; uitgangspunt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2 Metamodel ERD2UML inhoudelij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3 EA profi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el 1"/>
          <p:cNvSpPr/>
          <p:nvPr/>
        </p:nvSpPr>
        <p:spPr>
          <a:xfrm>
            <a:off x="1714680" y="285840"/>
            <a:ext cx="661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Definitie meta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2"/>
          <p:cNvSpPr/>
          <p:nvPr/>
        </p:nvSpPr>
        <p:spPr>
          <a:xfrm>
            <a:off x="714240" y="2071800"/>
            <a:ext cx="764388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Een model van een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- Metamodel is een model gemaakt op een ho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abstractie niveau die de regels en construc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(syntax en semantiek) van het onderliggen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model aangeef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hthoek 64"/>
          <p:cNvSpPr/>
          <p:nvPr/>
        </p:nvSpPr>
        <p:spPr>
          <a:xfrm>
            <a:off x="3786120" y="1143000"/>
            <a:ext cx="12146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65"/>
          <p:cNvSpPr/>
          <p:nvPr/>
        </p:nvSpPr>
        <p:spPr>
          <a:xfrm>
            <a:off x="6000840" y="1143000"/>
            <a:ext cx="8571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66"/>
          <p:cNvSpPr/>
          <p:nvPr/>
        </p:nvSpPr>
        <p:spPr>
          <a:xfrm>
            <a:off x="1214280" y="1143000"/>
            <a:ext cx="8575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el 1"/>
          <p:cNvSpPr/>
          <p:nvPr/>
        </p:nvSpPr>
        <p:spPr>
          <a:xfrm>
            <a:off x="1571760" y="21420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op hoofd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6276960" cy="50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el 1"/>
          <p:cNvSpPr/>
          <p:nvPr/>
        </p:nvSpPr>
        <p:spPr>
          <a:xfrm>
            <a:off x="164304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08000" y="642960"/>
            <a:ext cx="9036000" cy="607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tel 1"/>
          <p:cNvSpPr/>
          <p:nvPr/>
        </p:nvSpPr>
        <p:spPr>
          <a:xfrm>
            <a:off x="1785960" y="28584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Definitie &amp;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informatie model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73342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Arjan Kloosterboer</dc:creator>
  <dc:description/>
  <dc:language>en-US</dc:language>
  <cp:lastModifiedBy>Harmen Mantel</cp:lastModifiedBy>
  <dcterms:modified xsi:type="dcterms:W3CDTF">2010-10-20T05:26:30Z</dcterms:modified>
  <cp:revision>158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